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DD8D30-6229-4327-83F3-B474E28A06A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ol not a c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ill need to design site/content to be appropri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uper style DOES the technical ‘work’ - http://pssweb.manchester.ac.uk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 of bad content on SS – FoPH - http://www.festivalofpublichealth.manchester.ac.uk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A27F6B-EF08-4EA9-95E3-E46443CC36B7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ED2CC2-153C-4F04-B54C-46212EAAAF4C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089BA9-6D8C-4BDE-9141-3FB6552B343C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EBC2-0FA4-487D-9492-FF0784D8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E177-5521-4BBC-879D-AAD1B056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4FB2-1D12-4042-B6CB-0981791D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E267-4A16-4245-937C-349BBBEC8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1FBF-1C5B-4AFD-AA2B-4CE14902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5FB2-DBDF-438C-8554-0A5B50A4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E1D3-CDEE-40A3-8AB0-9A8B0D22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0FE8-9A64-4821-86BE-8C32B274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F27E-94DB-41DC-B518-D227B4FE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AE25-3409-4C85-94CD-190F6A10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0182-BE2D-4A02-8089-23E0060C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C597-838C-4FFF-AE9A-D571BDA9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85BB5C-8312-410F-BB4E-58B717EE5EA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brand_ppt_back.jpg"/>
          <p:cNvPicPr/>
          <p:nvPr/>
        </p:nvPicPr>
        <p:blipFill>
          <a:blip r:embed="rId1"/>
          <a:stretch/>
        </p:blipFill>
        <p:spPr>
          <a:xfrm>
            <a:off x="-85680" y="0"/>
            <a:ext cx="9229680" cy="69231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404640" y="1566720"/>
            <a:ext cx="837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heSans Bold"/>
              </a:rPr>
              <a:t>PSS IT Web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341280" y="2762280"/>
            <a:ext cx="83757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heSans SemiLight"/>
                <a:ea typeface="Arial"/>
              </a:rPr>
              <a:t>Mobile responsive content in Site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" descr="TAB_allwhite.eps"/>
          <p:cNvPicPr/>
          <p:nvPr/>
        </p:nvPicPr>
        <p:blipFill>
          <a:blip r:embed="rId2"/>
          <a:stretch/>
        </p:blipFill>
        <p:spPr>
          <a:xfrm>
            <a:off x="522360" y="509760"/>
            <a:ext cx="166356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brand_ppt_back.jpg"/>
          <p:cNvPicPr/>
          <p:nvPr/>
        </p:nvPicPr>
        <p:blipFill>
          <a:blip r:embed="rId1"/>
          <a:stretch/>
        </p:blipFill>
        <p:spPr>
          <a:xfrm>
            <a:off x="-85680" y="-65160"/>
            <a:ext cx="9229680" cy="692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" descr="TAB_allwhite.eps"/>
          <p:cNvPicPr/>
          <p:nvPr/>
        </p:nvPicPr>
        <p:blipFill>
          <a:blip r:embed="rId2"/>
          <a:stretch/>
        </p:blipFill>
        <p:spPr>
          <a:xfrm>
            <a:off x="522360" y="509760"/>
            <a:ext cx="1663560" cy="711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" descr=""/>
          <p:cNvPicPr/>
          <p:nvPr/>
        </p:nvPicPr>
        <p:blipFill>
          <a:blip r:embed="rId3"/>
          <a:stretch/>
        </p:blipFill>
        <p:spPr>
          <a:xfrm>
            <a:off x="2724120" y="1797120"/>
            <a:ext cx="3695760" cy="36939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"/>
          <p:cNvSpPr/>
          <p:nvPr/>
        </p:nvSpPr>
        <p:spPr>
          <a:xfrm>
            <a:off x="1824120" y="5850000"/>
            <a:ext cx="549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rebuchet MS"/>
                <a:ea typeface="Mangal"/>
              </a:rPr>
              <a:t>http://bit.ly/153jL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brand_ppt_back.jpg"/>
          <p:cNvPicPr/>
          <p:nvPr/>
        </p:nvPicPr>
        <p:blipFill>
          <a:blip r:embed="rId1"/>
          <a:stretch/>
        </p:blipFill>
        <p:spPr>
          <a:xfrm>
            <a:off x="-85680" y="-65160"/>
            <a:ext cx="9229680" cy="6923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" descr="TAB_allwhite.eps"/>
          <p:cNvPicPr/>
          <p:nvPr/>
        </p:nvPicPr>
        <p:blipFill>
          <a:blip r:embed="rId2"/>
          <a:stretch/>
        </p:blipFill>
        <p:spPr>
          <a:xfrm>
            <a:off x="522360" y="509760"/>
            <a:ext cx="1663560" cy="711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-85680" y="5850000"/>
            <a:ext cx="92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Mangal"/>
              </a:rPr>
              <a:t>http://www.festivalofpublichealth.manchester.ac.u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qrcode.png"/>
          <p:cNvPicPr/>
          <p:nvPr/>
        </p:nvPicPr>
        <p:blipFill>
          <a:blip r:embed="rId3"/>
          <a:stretch/>
        </p:blipFill>
        <p:spPr>
          <a:xfrm>
            <a:off x="2658960" y="1766880"/>
            <a:ext cx="3826080" cy="38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5:51:07Z</dcterms:created>
  <dc:creator>Russell Hart</dc:creator>
  <dc:description/>
  <dc:language>en-US</dc:language>
  <cp:lastModifiedBy>Pete Morris</cp:lastModifiedBy>
  <dcterms:modified xsi:type="dcterms:W3CDTF">2013-04-16T11:05:10Z</dcterms:modified>
  <cp:revision>72</cp:revision>
  <dc:subject/>
  <dc:title>PowerPoint Presentation</dc:title>
</cp:coreProperties>
</file>